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8791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3240" y="4015080"/>
            <a:ext cx="8791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3240" y="401508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8280" y="401508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05760" y="158724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8280" y="158724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33240" y="401508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05760" y="401508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8280" y="401508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33240" y="1587240"/>
            <a:ext cx="8791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8791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3360" y="104760"/>
            <a:ext cx="6521760" cy="20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3240" y="401508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33240" y="1587240"/>
            <a:ext cx="8791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38280" y="401508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3240" y="4015080"/>
            <a:ext cx="8791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8791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3240" y="4015080"/>
            <a:ext cx="8791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3240" y="401508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38280" y="401508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5760" y="158724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78280" y="158724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33240" y="401508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05760" y="401508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78280" y="4015080"/>
            <a:ext cx="2830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8791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3360" y="104760"/>
            <a:ext cx="6521760" cy="20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33240" y="401508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8280" y="401508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360" y="84960"/>
            <a:ext cx="6521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324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8280" y="1587240"/>
            <a:ext cx="429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33240" y="4015080"/>
            <a:ext cx="8791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33240" y="1587240"/>
            <a:ext cx="8791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3" marL="1333440" indent="-19044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4" marL="1714680" indent="-19080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5" marL="1714680" indent="-190800">
              <a:lnSpc>
                <a:spcPct val="90000"/>
              </a:lnSpc>
              <a:spcBef>
                <a:spcPts val="1125"/>
              </a:spcBef>
              <a:buClr>
                <a:srgbClr val="43434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6" marL="1714680" indent="-190800">
              <a:lnSpc>
                <a:spcPct val="90000"/>
              </a:lnSpc>
              <a:spcBef>
                <a:spcPts val="1125"/>
              </a:spcBef>
              <a:buClr>
                <a:srgbClr val="43434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3360" y="104760"/>
            <a:ext cx="652176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568"/>
                </a:solidFill>
                <a:uFillTx/>
                <a:latin typeface="Arial"/>
              </a:rPr>
              <a:t>Click to edit the title text format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770040" y="2279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25560" y="6437160"/>
            <a:ext cx="844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8568"/>
                </a:solidFill>
                <a:latin typeface="Arial"/>
              </a:rPr>
              <a:t>#</a:t>
            </a:r>
            <a:fld id="{2ADD2042-93A1-4CB9-AE6C-3271A21F9D40}" type="slidenum">
              <a:rPr b="0" lang="fr-FR" sz="900" spc="-1" strike="noStrike">
                <a:solidFill>
                  <a:srgbClr val="008568"/>
                </a:solidFill>
                <a:latin typeface="Arial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800" spc="-1" strike="noStrike">
                <a:solidFill>
                  <a:srgbClr val="434348"/>
                </a:solidFill>
                <a:latin typeface="Arial"/>
              </a:rPr>
              <a:t>             2008 • Division Moyennes et Grandes Entreprises •</a:t>
            </a:r>
            <a:endParaRPr b="0" lang="en-US" sz="8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4" name="Picture 30" descr="logo sage petit"/>
          <p:cNvPicPr/>
          <p:nvPr/>
        </p:nvPicPr>
        <p:blipFill>
          <a:blip r:embed="rId2"/>
          <a:stretch/>
        </p:blipFill>
        <p:spPr>
          <a:xfrm>
            <a:off x="8518680" y="6367320"/>
            <a:ext cx="1029960" cy="471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3" descr="formedecoin"/>
          <p:cNvPicPr/>
          <p:nvPr/>
        </p:nvPicPr>
        <p:blipFill>
          <a:blip r:embed="rId3"/>
          <a:stretch/>
        </p:blipFill>
        <p:spPr>
          <a:xfrm>
            <a:off x="6994440" y="0"/>
            <a:ext cx="2916360" cy="154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5" descr="tit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33240" y="1587240"/>
            <a:ext cx="8791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3" marL="1333440" indent="-19044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4" marL="1714680" indent="-190800">
              <a:lnSpc>
                <a:spcPct val="90000"/>
              </a:lnSpc>
              <a:spcBef>
                <a:spcPts val="1125"/>
              </a:spcBef>
              <a:buClr>
                <a:srgbClr val="00856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5" marL="1714680" indent="-190800">
              <a:lnSpc>
                <a:spcPct val="90000"/>
              </a:lnSpc>
              <a:spcBef>
                <a:spcPts val="1125"/>
              </a:spcBef>
              <a:buClr>
                <a:srgbClr val="43434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lvl="6" marL="1714680" indent="-190800">
              <a:lnSpc>
                <a:spcPct val="90000"/>
              </a:lnSpc>
              <a:spcBef>
                <a:spcPts val="1125"/>
              </a:spcBef>
              <a:buClr>
                <a:srgbClr val="43434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3360" y="104760"/>
            <a:ext cx="652176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568"/>
                </a:solidFill>
                <a:uFillTx/>
                <a:latin typeface="Arial"/>
              </a:rPr>
              <a:t>Click to edit the title text format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968560" y="5545080"/>
            <a:ext cx="642168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Division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yennes et Grandes Entreprises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744480" y="0"/>
            <a:ext cx="849168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8568"/>
                </a:solidFill>
                <a:latin typeface="Arial"/>
              </a:rPr>
              <a:t>Sage XRT Business Exchange</a:t>
            </a:r>
            <a:endParaRPr b="0" lang="en-US" sz="3600" spc="-1" strike="noStrike">
              <a:solidFill>
                <a:srgbClr val="43434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8568"/>
                </a:solidFill>
                <a:latin typeface="Arial"/>
              </a:rPr>
              <a:t>V11.40 SP2</a:t>
            </a:r>
            <a:endParaRPr b="0" lang="en-US" sz="3600" spc="-1" strike="noStrike">
              <a:solidFill>
                <a:srgbClr val="43434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8568"/>
                </a:solidFill>
                <a:latin typeface="Arial"/>
              </a:rPr>
              <a:t>Les nouveautés</a:t>
            </a:r>
            <a:endParaRPr b="0" lang="en-US" sz="3600" spc="-1" strike="noStrike">
              <a:solidFill>
                <a:srgbClr val="43434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20880" y="4910040"/>
            <a:ext cx="675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8568"/>
                </a:solidFill>
                <a:latin typeface="Arial"/>
              </a:rPr>
              <a:t>SAGE</a:t>
            </a:r>
            <a:endParaRPr b="0" lang="en-US" sz="3600" spc="-1" strike="noStrike">
              <a:solidFill>
                <a:srgbClr val="43434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568"/>
                </a:solidFill>
                <a:latin typeface="Arial"/>
              </a:rPr>
              <a:t>Division </a:t>
            </a:r>
            <a:r>
              <a:rPr b="1" lang="en-US" sz="2400" spc="-1" strike="noStrike">
                <a:solidFill>
                  <a:srgbClr val="008568"/>
                </a:solidFill>
                <a:latin typeface="Arial"/>
              </a:rPr>
              <a:t>European Market </a:t>
            </a:r>
            <a:r>
              <a:rPr b="1" lang="fr-FR" sz="2400" spc="-1" strike="noStrike">
                <a:solidFill>
                  <a:srgbClr val="008568"/>
                </a:solidFill>
                <a:latin typeface="Arial"/>
              </a:rPr>
              <a:t>Entreprise</a:t>
            </a: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392800" y="4964040"/>
            <a:ext cx="1406520" cy="6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360" y="0"/>
            <a:ext cx="70358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Mot de passe oublié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168120" y="561960"/>
            <a:ext cx="8266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Si l’utilisateur clique sur le lien,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UniPass Manager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vérifie tout d’abord si celui-ci est toujours valide (délai de 12 heures)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Si c’est le cas,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UniPass Manager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ouvre alors la fenêtre de saisie d’un nouveau mot de passe :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657520" y="1515960"/>
            <a:ext cx="4675320" cy="3610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168120" y="5238720"/>
            <a:ext cx="957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orsque l’utilisateur clique sur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Envoyer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UniPass Manager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va instancier une demande de réinitialisation du mot de passe auprès des Outils Communs ou de l’AD (en fonction du paramétrage en place) en passant l’ensemble des informations communiquées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68120" y="6072120"/>
            <a:ext cx="95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Un écran de succès (ou d’échec) est retourné et un mail d’information est envoyé au demandeur et à l’administrateur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76852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Téléchargements : Sauvegarde directe de plusieurs fichiers (HotFix uniquement)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611280" y="2008080"/>
            <a:ext cx="8726400" cy="3575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81080" y="1050840"/>
            <a:ext cx="951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Ajout d’une colonne de sélection des éléments au niveau de la fenêtre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Réception de fichiers 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du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Module Téléchargement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3320" y="672840"/>
            <a:ext cx="813924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23236"/>
                </a:solidFill>
                <a:latin typeface="Arial"/>
              </a:rPr>
              <a:t>Nouvelle fonctionnalité permettant de spécifier  un caractère de séparateur pour le champ Référence Externe des Archives et Fichiers de la Communication bancaire, qui était auparavant fixé avec le caractère « / ».</a:t>
            </a: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6335640"/>
            <a:ext cx="914400" cy="4618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3360" y="-360"/>
            <a:ext cx="70358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Gestion du séparateur référence externe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30080" y="1528920"/>
            <a:ext cx="7188480" cy="396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730080" y="5632560"/>
            <a:ext cx="7180560" cy="1019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" y="0"/>
            <a:ext cx="8875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Gestion des formats marocains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93680" y="566640"/>
            <a:ext cx="813924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Ajout dans la liste des formats de 3 nouveaux formats spécifiques au Maroc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85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AMB120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: Relevé de compte marocain, très proche du format CFONB120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Gestion de l’édition et de l’intégration bancaire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85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85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SIMT_IMP160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: Relevé d’impayés marocain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Gestion de l’édition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85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85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SIMT500_VIR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: Virement domestique marocain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Gestion de l’édition du fichier et du bordereau de remise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000" y="0"/>
            <a:ext cx="8875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Remise en Signature d’un fichier via le Moniteur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77840" y="520560"/>
            <a:ext cx="821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Au niveau de l’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Historique des transferts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du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Service de transfert de fichier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, clic droit sur une ligne :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Ajout d’une option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Remettre en Signature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095640" y="1152360"/>
            <a:ext cx="2343240" cy="31197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177840" y="5764320"/>
            <a:ext cx="953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’ajout d’un fichier via la nouvelle fonction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Remettre en Signature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équivaut à un ajout normal de fichier via PDSCOPY, à ceci près que le fichier est celui du transfert sélectionné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’ajout du fichier se fera à partir d’un fichier unique réservé à cet usage appelé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Moniteur.Rxp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925560" y="1152360"/>
            <a:ext cx="6632640" cy="4491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7558200" y="2235240"/>
            <a:ext cx="23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Référence externe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 :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renseignée avec la valeur de la référence externe du transfert sélectionné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558200" y="3452760"/>
            <a:ext cx="2347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Partenaire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Protocole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Service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Client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Banque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 :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es valeurs sont reprises à partir du contrat du transfert sélectionné dans l’historique des transferts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3360" y="0"/>
            <a:ext cx="6521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Gestion de l’expiration des certificats</a:t>
            </a: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93320" y="576000"/>
            <a:ext cx="813924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23236"/>
                </a:solidFill>
                <a:latin typeface="Arial"/>
              </a:rPr>
              <a:t>Certaines banques (BNP et SG entre autres) contrôlent l’expiration des certificats de transport (authentification et chiffrement) des signataires.</a:t>
            </a: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23236"/>
                </a:solidFill>
                <a:latin typeface="Arial"/>
              </a:rPr>
              <a:t>Aussi, une procédure a été mise en place à partir de cette version pour éviter que des signataires ne se retrouvent avec des certificats de transports périmés et donc des transferts rejetés.</a:t>
            </a: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23236"/>
                </a:solidFill>
                <a:latin typeface="Arial"/>
              </a:rPr>
              <a:t>Au moment de la signature, on va contrôler si les certificats de transport du signataire sont identiques à ceux du contrat bancaire. Si ce n’est pas le cas, le signataire est alors averti via un message qu’il doit renouveler ceux-ci.</a:t>
            </a: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23236"/>
                </a:solidFill>
                <a:latin typeface="Arial"/>
              </a:rPr>
              <a:t>S’il clique sur OK, les certificats sont mis à jour via une </a:t>
            </a:r>
            <a:r>
              <a:rPr b="1" lang="fr-FR" sz="1600" spc="-1" strike="noStrike" u="sng">
                <a:solidFill>
                  <a:srgbClr val="323236"/>
                </a:solidFill>
                <a:uFillTx/>
                <a:latin typeface="Arial"/>
              </a:rPr>
              <a:t>requête HCA</a:t>
            </a:r>
            <a:r>
              <a:rPr b="0" lang="fr-FR" sz="1600" spc="-1" strike="noStrike">
                <a:solidFill>
                  <a:srgbClr val="323236"/>
                </a:solidFill>
                <a:latin typeface="Arial"/>
              </a:rPr>
              <a:t> (ce qui ne prend que quelques secondes) et la procédure de signature se poursuit normalement.</a:t>
            </a: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593800" y="2784600"/>
            <a:ext cx="3692880" cy="288756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3360" y="189000"/>
            <a:ext cx="8875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b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Réconciliation de PSR contenant de multiples opérations</a:t>
            </a: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93680" y="914400"/>
            <a:ext cx="9515520" cy="55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ors de l'envoi en EBICS de plusieurs fichiers en mode réconciliation, on lançait autant de demandes de récupération de PSR que de fichiers envoyés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buClr>
                <a:srgbClr val="00856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e premier PSR était reçu avec succès, il contient bien toutes les information correspondant à l'envoi des x fichiers et l'Order Id est bien incrémenté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buClr>
                <a:srgbClr val="00856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buClr>
                <a:srgbClr val="00856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Cependant, les autres demandes de PSR se terminaient en échec "no data are available" puisque les infos avaient déjà été reçues via la réception du premier PSR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buClr>
                <a:srgbClr val="00856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856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34348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434348"/>
                </a:solidFill>
                <a:latin typeface="Arial"/>
              </a:rPr>
              <a:t>Des infos en échec qui polluent l'historique des transfert.</a:t>
            </a: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434348"/>
                </a:solidFill>
                <a:uFillTx/>
                <a:latin typeface="Arial"/>
              </a:rPr>
              <a:t>Solution :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34348"/>
                </a:solidFill>
                <a:latin typeface="Arial"/>
              </a:rPr>
              <a:t>Avant chaque lancement d'un PSR de réconciliation, on vérifie dans l'historique des transferts s'il reste des transferts en attente de réconciliation.</a:t>
            </a: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34348"/>
                </a:solidFill>
                <a:latin typeface="Arial"/>
              </a:rPr>
              <a:t>Si ce n'est pas le cas, on supprime les lancements de PSR de réconciliation programmés.</a:t>
            </a:r>
            <a:endParaRPr b="0" lang="en-US" sz="16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54160" y="676440"/>
            <a:ext cx="9385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Edition des règles de signature : Agrandissement de la zone date et heure pour une édition US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Ajout d’une trace de la requête HPB, HAA, HEV, HKD, HPD et HTD dans le moniteur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Tri par ordre alphabétique des listes déroulantes des Filtres d'affichage dans le Moniteur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Ajout d’un champ 'Motif' lors d'une notification suite à un Archivage manuel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Ajout dans l’interface trésorerie et l’interface rapprochement du Gestionnaire de Services de SXBE d’une colonne indiquant la date des soldes, comme dans Sage XRT Communication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buClr>
                <a:srgbClr val="43434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Nouveau libellé pour le code MD01 : ‘No Mandate or unable to obtain Mandate confirmation from Debtor’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3360" y="0"/>
            <a:ext cx="6521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Nouveautés diverses</a:t>
            </a: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239840" y="2965320"/>
            <a:ext cx="709596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281040" y="5843160"/>
            <a:ext cx="3570120" cy="29052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568"/>
                </a:solidFill>
                <a:latin typeface="Arial"/>
              </a:rPr>
              <a:t>www</a:t>
            </a:r>
            <a:r>
              <a:rPr b="0" lang="fr-FR" sz="1800" spc="-1" strike="noStrike">
                <a:solidFill>
                  <a:srgbClr val="008568"/>
                </a:solidFill>
                <a:latin typeface="Arial"/>
              </a:rPr>
              <a:t>.</a:t>
            </a:r>
            <a:r>
              <a:rPr b="1" lang="fr-FR" sz="1800" spc="-1" strike="noStrike">
                <a:solidFill>
                  <a:srgbClr val="008568"/>
                </a:solidFill>
                <a:latin typeface="Arial"/>
              </a:rPr>
              <a:t>sage.fr/mge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59" name="Picture 4" descr="logo numero indigo"/>
          <p:cNvPicPr/>
          <p:nvPr/>
        </p:nvPicPr>
        <p:blipFill>
          <a:blip r:embed="rId1"/>
          <a:stretch/>
        </p:blipFill>
        <p:spPr>
          <a:xfrm>
            <a:off x="7464600" y="5891040"/>
            <a:ext cx="2133360" cy="196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6521400" y="5994360"/>
            <a:ext cx="3140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3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568"/>
                </a:solidFill>
                <a:latin typeface="Arial"/>
              </a:rPr>
              <a:t>Sage</a:t>
            </a:r>
            <a:br>
              <a:rPr sz="1200"/>
            </a:br>
            <a:r>
              <a:rPr b="1" lang="fr-FR" sz="1200" spc="-1" strike="noStrike">
                <a:solidFill>
                  <a:srgbClr val="008568"/>
                </a:solidFill>
                <a:latin typeface="Arial"/>
              </a:rPr>
              <a:t>10, rue Fructidor</a:t>
            </a:r>
            <a:br>
              <a:rPr sz="1200"/>
            </a:br>
            <a:r>
              <a:rPr b="1" lang="fr-FR" sz="1200" spc="-1" strike="noStrike">
                <a:solidFill>
                  <a:srgbClr val="008568"/>
                </a:solidFill>
                <a:latin typeface="Arial"/>
              </a:rPr>
              <a:t>75 834 Paris Cedex 17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fr-FR" sz="1000" spc="-1" strike="noStrike">
                <a:solidFill>
                  <a:srgbClr val="008568"/>
                </a:solidFill>
                <a:latin typeface="Arial"/>
              </a:rPr>
              <a:t>0,15€ TTC / min</a:t>
            </a:r>
            <a:br>
              <a:rPr sz="1000"/>
            </a:br>
            <a:r>
              <a:rPr b="1" lang="fr-FR" sz="1200" spc="-1" strike="noStrike">
                <a:solidFill>
                  <a:srgbClr val="008568"/>
                </a:solidFill>
                <a:latin typeface="Arial"/>
              </a:rPr>
              <a:t>Fax : +33 (0)1 41 66 22 01</a:t>
            </a:r>
            <a:endParaRPr b="0" lang="en-US" sz="12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908000" y="2019240"/>
            <a:ext cx="74073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8568"/>
                </a:solidFill>
                <a:latin typeface="Arial"/>
              </a:rPr>
              <a:t>Questions/Réponse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r-FR" sz="2400" spc="-1" strike="noStrike">
                <a:solidFill>
                  <a:srgbClr val="008568"/>
                </a:solidFill>
                <a:latin typeface="Arial"/>
              </a:rPr>
              <a:t>Merci de votre attention</a:t>
            </a:r>
            <a:br>
              <a:rPr sz="2400"/>
            </a:b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360" y="104760"/>
            <a:ext cx="652176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Liste des nouveautés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0280" y="1455480"/>
            <a:ext cx="8791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PEP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Portail documentaire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Gestion du mot de passe oublié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Téléchargements : Sauvegarde directe de plusieurs fichiers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Séparateur Référence Externe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Gestion de formats marocains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Remise en Signature d’un fichier vie la Moniteur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Gestion de l’expiration des certificats de transport des signataires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Réconciliation de PSR contenant de multiples opérations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Divers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22222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360" y="0"/>
            <a:ext cx="70358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PEP : Product </a:t>
            </a:r>
            <a:r>
              <a:rPr b="1" lang="en-US" sz="2400" spc="-1" strike="noStrike" u="sng">
                <a:solidFill>
                  <a:srgbClr val="008568"/>
                </a:solidFill>
                <a:uFillTx/>
                <a:latin typeface="Arial"/>
              </a:rPr>
              <a:t>Enhancement</a:t>
            </a: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 Program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1200" y="998640"/>
            <a:ext cx="922032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Le PEP (ou PAP - Programme d’Amélioration Produit - en français) est un service qui permet de collecter des données sur l’utilisation et l’environnement technique d’un produit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Il permet ainsi de connaître l’utilisation réelle des différentes fonctionnalités d’un produit et de déterminer aux mieux les développements à apporter, et d’éventuels </a:t>
            </a:r>
            <a:r>
              <a:rPr b="1" lang="fr-FR" sz="1800" spc="-1" strike="noStrike">
                <a:solidFill>
                  <a:srgbClr val="323236"/>
                </a:solidFill>
                <a:latin typeface="Arial"/>
              </a:rPr>
              <a:t>futurs services</a:t>
            </a: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 ajoutés à proposer, pour la satisfaction du plus grand nombre de clients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Le PEP est </a:t>
            </a:r>
            <a:r>
              <a:rPr b="0" lang="fr-FR" sz="1800" spc="-1" strike="noStrike" u="sng">
                <a:solidFill>
                  <a:srgbClr val="323236"/>
                </a:solidFill>
                <a:uFillTx/>
                <a:latin typeface="Arial"/>
              </a:rPr>
              <a:t>désactivé par défaut</a:t>
            </a: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L’activation (et désactivation) de la participation générale de la société au Programme se fait dans l’Administration système, au niveau d’un onglet dédié </a:t>
            </a:r>
            <a:r>
              <a:rPr b="1" lang="fr-FR" sz="1800" spc="-1" strike="noStrike">
                <a:solidFill>
                  <a:srgbClr val="323236"/>
                </a:solidFill>
                <a:latin typeface="Arial"/>
              </a:rPr>
              <a:t>Paramètres du P.A.P</a:t>
            </a: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, au niveau du site (Master)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82680" y="4325760"/>
            <a:ext cx="2923920" cy="179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898560" y="4049640"/>
            <a:ext cx="868680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360" y="0"/>
            <a:ext cx="70358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PEP : Product </a:t>
            </a:r>
            <a:r>
              <a:rPr b="1" lang="en-US" sz="2400" spc="-1" strike="noStrike" u="sng">
                <a:solidFill>
                  <a:srgbClr val="008568"/>
                </a:solidFill>
                <a:uFillTx/>
                <a:latin typeface="Arial"/>
              </a:rPr>
              <a:t>Enhancement</a:t>
            </a: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 Program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0720" y="740880"/>
            <a:ext cx="8124840" cy="58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Si l’utilisation du PAP est activée, à la première connexion de chaque utilisateur, il est invité à participer au programme PEP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L’utilisateur peut également, comme cela est indiqué sur la fenêtre de participation au programme, aller dans « A propos »pour modifier ses conditions de participation au programme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589040" y="2830680"/>
            <a:ext cx="6711840" cy="306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600200" y="495360"/>
            <a:ext cx="6705720" cy="58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90440" y="1357200"/>
            <a:ext cx="953784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360" y="0"/>
            <a:ext cx="70358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PEP : Product </a:t>
            </a:r>
            <a:r>
              <a:rPr b="1" lang="en-US" sz="2400" spc="-1" strike="noStrike" u="sng">
                <a:solidFill>
                  <a:srgbClr val="008568"/>
                </a:solidFill>
                <a:uFillTx/>
                <a:latin typeface="Arial"/>
              </a:rPr>
              <a:t>Enhancement</a:t>
            </a: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 Program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0080" y="601200"/>
            <a:ext cx="812484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23236"/>
                </a:solidFill>
                <a:latin typeface="Arial"/>
              </a:rPr>
              <a:t>Si l’utilisateur accepte de participer au PEP, ses données d’utilisation du produit sont alors envoyées en temps réel à Google Analytics.</a:t>
            </a:r>
            <a:endParaRPr b="0" lang="en-US" sz="18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360" y="0"/>
            <a:ext cx="70358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Port</a:t>
            </a:r>
            <a:r>
              <a:rPr b="1" lang="en-US" sz="2400" spc="-1" strike="noStrike" u="sng">
                <a:solidFill>
                  <a:srgbClr val="008568"/>
                </a:solidFill>
                <a:uFillTx/>
                <a:latin typeface="Arial"/>
              </a:rPr>
              <a:t>ail Document</a:t>
            </a: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aire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95400" y="596880"/>
            <a:ext cx="9671040" cy="601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45960" y="1095480"/>
            <a:ext cx="9145800" cy="4187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360" y="0"/>
            <a:ext cx="70358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Mot de passe oublié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144360" y="561960"/>
            <a:ext cx="9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Au niveau du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Service de transaction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, ajout d’une option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Activer la gestion de mot de passe oublié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44360" y="5594400"/>
            <a:ext cx="93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Activer la gestion de mot de passe oublié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 : Désactivé par défaut. Si activé, l’option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Mot de passe oublié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est proposée au niveau de la fenêtre de connexion à OnLine Banking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571760" y="1469880"/>
            <a:ext cx="6735600" cy="331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360" y="0"/>
            <a:ext cx="70358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Mot de passe oublié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13" name="Picture 3" descr="cid:image003.png@01D04145.A1C8E1B0"/>
          <p:cNvPicPr/>
          <p:nvPr/>
        </p:nvPicPr>
        <p:blipFill>
          <a:blip r:embed="rId1"/>
          <a:stretch/>
        </p:blipFill>
        <p:spPr>
          <a:xfrm>
            <a:off x="333360" y="546120"/>
            <a:ext cx="3095640" cy="6105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3657600" y="1009800"/>
            <a:ext cx="57531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orsque l’utilisateur clique sur  </a:t>
            </a:r>
            <a:r>
              <a:rPr b="0" lang="fr-FR" sz="1400" spc="-1" strike="noStrike" u="sng">
                <a:solidFill>
                  <a:srgbClr val="0000ff"/>
                </a:solidFill>
                <a:uFillTx/>
                <a:latin typeface="Arial"/>
              </a:rPr>
              <a:t>Mot de passe oublié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le Service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UniPass Manager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 est appelé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’utilisateur renseigne les informations puis clique sur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Envoyer</a:t>
            </a: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, pour valider la demande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e service valide les points suivants :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buClr>
                <a:srgbClr val="43434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Le code CAPTCHA saisi est bien celui émis avec la page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buClr>
                <a:srgbClr val="43434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  <a:p>
            <a:pPr>
              <a:buClr>
                <a:srgbClr val="43434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Que le couple USER/EMAIL est bien celui défini dans les </a:t>
            </a:r>
            <a:r>
              <a:rPr b="1" lang="fr-FR" sz="1400" spc="-1" strike="noStrike">
                <a:solidFill>
                  <a:srgbClr val="434348"/>
                </a:solidFill>
                <a:latin typeface="Arial"/>
              </a:rPr>
              <a:t>Outils communs XRT Sage Common Services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762200" y="2335320"/>
            <a:ext cx="6381720" cy="23907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360" y="0"/>
            <a:ext cx="70358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8568"/>
                </a:solidFill>
                <a:uFillTx/>
                <a:latin typeface="Arial"/>
              </a:rPr>
              <a:t>Mot de passe oublié</a:t>
            </a:r>
            <a:endParaRPr b="1" lang="en-US" sz="2400" spc="-1" strike="noStrike" u="sng">
              <a:solidFill>
                <a:srgbClr val="008568"/>
              </a:solidFill>
              <a:uFillTx/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6446880"/>
            <a:ext cx="3178080" cy="204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8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719360" y="936720"/>
            <a:ext cx="6467400" cy="5187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"/>
          <p:cNvSpPr/>
          <p:nvPr/>
        </p:nvSpPr>
        <p:spPr>
          <a:xfrm>
            <a:off x="190440" y="566640"/>
            <a:ext cx="93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34348"/>
                </a:solidFill>
                <a:latin typeface="Arial"/>
              </a:rPr>
              <a:t>Si la requête est valide, il y a deux envois automatiques.</a:t>
            </a:r>
            <a:endParaRPr b="0" lang="en-US" sz="1400" spc="-1" strike="noStrike">
              <a:solidFill>
                <a:srgbClr val="43434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4:00:22Z</dcterms:created>
  <dc:creator>Cyril METEYER</dc:creator>
  <dc:description/>
  <dc:language>en-US</dc:language>
  <cp:lastModifiedBy>VOURIOT, Karen</cp:lastModifiedBy>
  <cp:lastPrinted>2007-04-11T22:53:31Z</cp:lastPrinted>
  <dcterms:modified xsi:type="dcterms:W3CDTF">2015-05-12T13:24:49Z</dcterms:modified>
  <cp:revision>605</cp:revision>
  <dc:subject/>
  <dc:title>Diapositive 1</dc:title>
</cp:coreProperties>
</file>